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F232-2786-4895-98BF-D844CFD312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73AB-E705-44A3-98F4-535BB520FB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CE77-7D33-4582-8E5B-55C4DBE762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8E73-E282-468E-9AB2-D7871B6E2D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B67B-B8E0-4298-8857-ACECC6C33D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4688-FBBA-4CC3-B889-5FC0A214D1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D20F-9625-4F99-92B8-A335C012C5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AA16-0732-43A8-95CC-B52F0DF878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5A7F-C4C1-40FB-8DEE-A9B4BB3E01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601E-C962-45F9-972E-B5912B1A02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5ECB-44DC-4B10-BF7C-83FEB948A4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FB1D-86D3-4E82-A6F4-62A4F452ED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9241-7A5A-49A2-9194-FFD7F16FEB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66E4-F77C-41A1-9375-2AEEACFE5C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A94D-28DD-4BF9-A7DC-74EA1CFD4B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1740-4C52-42B5-BA62-539DFFD8C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EB08-4C42-4FCE-BBB1-38EBFCB1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8487-D4B8-47C7-BDCD-2C6723966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5068-C0F7-407B-86C2-61317A548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E342-354C-42A1-B24D-69282F17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B04B-BCB6-4C2D-AE24-FC4244DB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0BED-14B3-47C5-A2E4-CF08E6B8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6E5B-624F-434F-AA63-5E92A3E1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B11A-86B6-4F13-827A-5EEEF2BA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1CA1-2F07-40CF-830A-855156F9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19B2-AED8-4908-A408-0E6E4E1B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AEA2-FD4C-4C9C-8D22-5BD3868A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C1A7-F44E-4FDC-BDE5-81D6B7F0B3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7EF2-E1F6-48D8-819D-8A2E9CF651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st Anticipated Cars of 2011:  Drive Green, Save Ca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Round T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98989"/>
                </a:solidFill>
                <a:latin typeface="Calibri"/>
              </a:rPr>
              <a:t>Car manufacturers believe  that consumers are planning to buy cars that will help the environment, save money and still look good in 2011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F564-CBC1-4DF9-AE09-BB2A98044C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 4 Fiat 5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Content Placeholder 3" descr="fiat 500.4.jpg"/>
          <p:cNvPicPr/>
          <p:nvPr/>
        </p:nvPicPr>
        <p:blipFill>
          <a:blip r:embed="rId1"/>
          <a:stretch/>
        </p:blipFill>
        <p:spPr>
          <a:xfrm>
            <a:off x="1600200" y="1600200"/>
            <a:ext cx="6248520" cy="3886200"/>
          </a:xfrm>
          <a:prstGeom prst="rect">
            <a:avLst/>
          </a:prstGeom>
          <a:ln w="0">
            <a:noFill/>
          </a:ln>
        </p:spPr>
      </p:pic>
      <p:sp>
        <p:nvSpPr>
          <p:cNvPr id="7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A85B-7C1A-49A0-BAD0-1F5F87FDDD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ord a fact/idea that you remember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ss the paper to your partner who will record a fact/idea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ep recording until I call tim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7241-33FC-4EB4-A009-9365C6B664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 3 Honda CR-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Content Placeholder 3" descr="honda cr-z 3.jpg"/>
          <p:cNvPicPr/>
          <p:nvPr/>
        </p:nvPicPr>
        <p:blipFill>
          <a:blip r:embed="rId1"/>
          <a:stretch/>
        </p:blipFill>
        <p:spPr>
          <a:xfrm>
            <a:off x="533520" y="1600200"/>
            <a:ext cx="8153280" cy="4800600"/>
          </a:xfrm>
          <a:prstGeom prst="rect">
            <a:avLst/>
          </a:prstGeom>
          <a:ln w="0">
            <a:noFill/>
          </a:ln>
        </p:spPr>
      </p:pic>
      <p:sp>
        <p:nvSpPr>
          <p:cNvPr id="8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3B2C-8064-44ED-9791-2B1CFF56F0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ord a fact/idea that you remember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ss the paper to your partner who will record a fact/idea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ep recording until I call tim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C6D7-7392-4FE1-989E-ED3F0A1D0F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2 Chevy Vol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3" descr="chevy volt.jpg"/>
          <p:cNvPicPr/>
          <p:nvPr/>
        </p:nvPicPr>
        <p:blipFill>
          <a:blip r:embed="rId1"/>
          <a:stretch/>
        </p:blipFill>
        <p:spPr>
          <a:xfrm>
            <a:off x="533520" y="1295280"/>
            <a:ext cx="8153280" cy="5105520"/>
          </a:xfrm>
          <a:prstGeom prst="rect">
            <a:avLst/>
          </a:prstGeom>
          <a:ln w="0">
            <a:noFill/>
          </a:ln>
        </p:spPr>
      </p:pic>
      <p:sp>
        <p:nvSpPr>
          <p:cNvPr id="8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697F-1519-4CFF-B41F-406C989708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ord a fact/idea that you remember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ss the paper to your partner who will record a fact/idea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ep recording until I call tim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A462-232B-4E91-9A13-55B7776F64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 1 Nissan LEA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Content Placeholder 3" descr="nissan leaf.jpg"/>
          <p:cNvPicPr/>
          <p:nvPr/>
        </p:nvPicPr>
        <p:blipFill>
          <a:blip r:embed="rId1"/>
          <a:stretch/>
        </p:blipFill>
        <p:spPr>
          <a:xfrm>
            <a:off x="533520" y="1447920"/>
            <a:ext cx="8153280" cy="4952880"/>
          </a:xfrm>
          <a:prstGeom prst="rect">
            <a:avLst/>
          </a:prstGeom>
          <a:ln w="0">
            <a:noFill/>
          </a:ln>
        </p:spPr>
      </p:pic>
      <p:sp>
        <p:nvSpPr>
          <p:cNvPr id="9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BB0D-B819-48B8-8FF8-F043C81D48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ord a fact/idea that you remember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ss the paper to your partner who will record a fact/idea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ep recording until I call tim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325F-B4FA-4798-BDEB-B69CBC1BB4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f you could buy any of these cars, and money (affordability)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as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an issue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ich one would you buy?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factors are you consider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your decision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Record your answer)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1B9D-1BD9-4977-B051-1928DA5D89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ich one do you like the looks of?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Fiesta,  Fiat, CR-Z, Volt, or Nissan LEAF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Content Placeholder 3" descr="ford fiesta.jpg"/>
          <p:cNvPicPr/>
          <p:nvPr/>
        </p:nvPicPr>
        <p:blipFill>
          <a:blip r:embed="rId1"/>
          <a:stretch/>
        </p:blipFill>
        <p:spPr>
          <a:xfrm>
            <a:off x="533520" y="16002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fiat 500.4.jpg"/>
          <p:cNvPicPr/>
          <p:nvPr/>
        </p:nvPicPr>
        <p:blipFill>
          <a:blip r:embed="rId2"/>
          <a:stretch/>
        </p:blipFill>
        <p:spPr>
          <a:xfrm>
            <a:off x="3657600" y="236232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honda cr-z 3.jpg"/>
          <p:cNvPicPr/>
          <p:nvPr/>
        </p:nvPicPr>
        <p:blipFill>
          <a:blip r:embed="rId3"/>
          <a:stretch/>
        </p:blipFill>
        <p:spPr>
          <a:xfrm>
            <a:off x="6324480" y="167652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chevy volt.jpg"/>
          <p:cNvPicPr/>
          <p:nvPr/>
        </p:nvPicPr>
        <p:blipFill>
          <a:blip r:embed="rId4"/>
          <a:stretch/>
        </p:blipFill>
        <p:spPr>
          <a:xfrm>
            <a:off x="1752480" y="441972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nissan leaf.jpg"/>
          <p:cNvPicPr/>
          <p:nvPr/>
        </p:nvPicPr>
        <p:blipFill>
          <a:blip r:embed="rId5"/>
          <a:stretch/>
        </p:blipFill>
        <p:spPr>
          <a:xfrm>
            <a:off x="5334120" y="4419720"/>
            <a:ext cx="2286000" cy="1752480"/>
          </a:xfrm>
          <a:prstGeom prst="rect">
            <a:avLst/>
          </a:prstGeom>
          <a:ln w="0">
            <a:noFill/>
          </a:ln>
        </p:spPr>
      </p:pic>
      <p:sp>
        <p:nvSpPr>
          <p:cNvPr id="101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F061-AA7D-4C85-9C18-2FB79D3772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st Anticipated Cars of 20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3" descr="intro.jpg"/>
          <p:cNvPicPr/>
          <p:nvPr/>
        </p:nvPicPr>
        <p:blipFill>
          <a:blip r:embed="rId1"/>
          <a:stretch/>
        </p:blipFill>
        <p:spPr>
          <a:xfrm>
            <a:off x="914400" y="1905120"/>
            <a:ext cx="7467480" cy="3733560"/>
          </a:xfrm>
          <a:prstGeom prst="rect">
            <a:avLst/>
          </a:prstGeom>
          <a:ln w="0">
            <a:noFill/>
          </a:ln>
        </p:spPr>
      </p:pic>
      <p:sp>
        <p:nvSpPr>
          <p:cNvPr id="5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BDB2-209C-493D-A097-65534C5D87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ich one gets the best mileage?  Fiesta,  Fiat, CR-Z, Volt, or Nissan LEAF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Content Placeholder 3" descr="ford fiesta.jpg"/>
          <p:cNvPicPr/>
          <p:nvPr/>
        </p:nvPicPr>
        <p:blipFill>
          <a:blip r:embed="rId1"/>
          <a:stretch/>
        </p:blipFill>
        <p:spPr>
          <a:xfrm>
            <a:off x="533520" y="144792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fiat 500.4.jpg"/>
          <p:cNvPicPr/>
          <p:nvPr/>
        </p:nvPicPr>
        <p:blipFill>
          <a:blip r:embed="rId2"/>
          <a:stretch/>
        </p:blipFill>
        <p:spPr>
          <a:xfrm>
            <a:off x="3657600" y="213372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honda cr-z 3.jpg"/>
          <p:cNvPicPr/>
          <p:nvPr/>
        </p:nvPicPr>
        <p:blipFill>
          <a:blip r:embed="rId3"/>
          <a:stretch/>
        </p:blipFill>
        <p:spPr>
          <a:xfrm>
            <a:off x="6324480" y="152388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chevy volt.jpg"/>
          <p:cNvPicPr/>
          <p:nvPr/>
        </p:nvPicPr>
        <p:blipFill>
          <a:blip r:embed="rId4"/>
          <a:stretch/>
        </p:blipFill>
        <p:spPr>
          <a:xfrm>
            <a:off x="1752480" y="426708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nissan leaf.jpg"/>
          <p:cNvPicPr/>
          <p:nvPr/>
        </p:nvPicPr>
        <p:blipFill>
          <a:blip r:embed="rId5"/>
          <a:stretch/>
        </p:blipFill>
        <p:spPr>
          <a:xfrm>
            <a:off x="5334120" y="4191120"/>
            <a:ext cx="2286000" cy="1752480"/>
          </a:xfrm>
          <a:prstGeom prst="rect">
            <a:avLst/>
          </a:prstGeom>
          <a:ln w="0">
            <a:noFill/>
          </a:ln>
        </p:spPr>
      </p:pic>
      <p:sp>
        <p:nvSpPr>
          <p:cNvPr id="108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C642-D87F-4F02-9342-483BCA348C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Which one is the most expensive initially?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iesta,  Fiat, CR-Z, Volt, or Nissan LEAF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Content Placeholder 3" descr="ford fiesta.jpg"/>
          <p:cNvPicPr/>
          <p:nvPr/>
        </p:nvPicPr>
        <p:blipFill>
          <a:blip r:embed="rId1"/>
          <a:stretch/>
        </p:blipFill>
        <p:spPr>
          <a:xfrm>
            <a:off x="5335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fiat 500.4.jpg"/>
          <p:cNvPicPr/>
          <p:nvPr/>
        </p:nvPicPr>
        <p:blipFill>
          <a:blip r:embed="rId2"/>
          <a:stretch/>
        </p:blipFill>
        <p:spPr>
          <a:xfrm>
            <a:off x="3657600" y="22860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honda cr-z 3.jpg"/>
          <p:cNvPicPr/>
          <p:nvPr/>
        </p:nvPicPr>
        <p:blipFill>
          <a:blip r:embed="rId3"/>
          <a:stretch/>
        </p:blipFill>
        <p:spPr>
          <a:xfrm>
            <a:off x="6324480" y="175248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chevy volt.jpg"/>
          <p:cNvPicPr/>
          <p:nvPr/>
        </p:nvPicPr>
        <p:blipFill>
          <a:blip r:embed="rId4"/>
          <a:stretch/>
        </p:blipFill>
        <p:spPr>
          <a:xfrm>
            <a:off x="1752480" y="43434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nissan leaf.jpg"/>
          <p:cNvPicPr/>
          <p:nvPr/>
        </p:nvPicPr>
        <p:blipFill>
          <a:blip r:embed="rId5"/>
          <a:stretch/>
        </p:blipFill>
        <p:spPr>
          <a:xfrm>
            <a:off x="5334120" y="4267080"/>
            <a:ext cx="2286000" cy="1752840"/>
          </a:xfrm>
          <a:prstGeom prst="rect">
            <a:avLst/>
          </a:prstGeom>
          <a:ln w="0">
            <a:noFill/>
          </a:ln>
        </p:spPr>
      </p:pic>
      <p:sp>
        <p:nvSpPr>
          <p:cNvPr id="115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31EF-5A3F-4354-B929-4DCD84232B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Which one is the most expensive, keep for 10 years and add 15,000 miles each year?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iesta,  Fiat, CR-Z, Volt, or Nissan LEAF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Content Placeholder 3" descr="ford fiesta.jpg"/>
          <p:cNvPicPr/>
          <p:nvPr/>
        </p:nvPicPr>
        <p:blipFill>
          <a:blip r:embed="rId1"/>
          <a:stretch/>
        </p:blipFill>
        <p:spPr>
          <a:xfrm>
            <a:off x="533520" y="22860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fiat 500.4.jpg"/>
          <p:cNvPicPr/>
          <p:nvPr/>
        </p:nvPicPr>
        <p:blipFill>
          <a:blip r:embed="rId2"/>
          <a:stretch/>
        </p:blipFill>
        <p:spPr>
          <a:xfrm>
            <a:off x="3657600" y="281952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honda cr-z 3.jpg"/>
          <p:cNvPicPr/>
          <p:nvPr/>
        </p:nvPicPr>
        <p:blipFill>
          <a:blip r:embed="rId3"/>
          <a:stretch/>
        </p:blipFill>
        <p:spPr>
          <a:xfrm>
            <a:off x="6324480" y="22860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chevy volt.jpg"/>
          <p:cNvPicPr/>
          <p:nvPr/>
        </p:nvPicPr>
        <p:blipFill>
          <a:blip r:embed="rId4"/>
          <a:stretch/>
        </p:blipFill>
        <p:spPr>
          <a:xfrm>
            <a:off x="1676520" y="48006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nissan leaf.jpg"/>
          <p:cNvPicPr/>
          <p:nvPr/>
        </p:nvPicPr>
        <p:blipFill>
          <a:blip r:embed="rId5"/>
          <a:stretch/>
        </p:blipFill>
        <p:spPr>
          <a:xfrm>
            <a:off x="5334120" y="4800600"/>
            <a:ext cx="2286000" cy="1752480"/>
          </a:xfrm>
          <a:prstGeom prst="rect">
            <a:avLst/>
          </a:prstGeom>
          <a:ln w="0">
            <a:noFill/>
          </a:ln>
        </p:spPr>
      </p:pic>
      <p:sp>
        <p:nvSpPr>
          <p:cNvPr id="122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EA41-CB70-4FA8-B3C5-3377E28542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f you could buy any of these cars, and money (affordability) was not an issue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ich one would you bu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2362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f I did not have to worry about the purchase price, I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ould buy the ______________ .  It is my first choice because _____________________________________,  _______________________________, and ________ __________________________.  My  second choice for a car would be a___________.   But if I had limited funds, I would settle for buying a  ________________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F369-946C-449B-9BE3-B2C5AEF7A0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me people might consider these two issues to be opposites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rive Green               Save Cash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do you think they mean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alk with your partner for a minut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FC5F-7DE5-4887-9FC4-14B40B8B6A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ive Gre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37160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sing less fossil fuels, an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etter yet, no fossil fuels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us producing les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mate-altering CO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C90B-641C-4974-B79E-76EB584812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ve Ca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Program Files\Microsoft Office\MEDIA\CAGCAT10\j0222015.wmf"/>
          <p:cNvPicPr/>
          <p:nvPr/>
        </p:nvPicPr>
        <p:blipFill>
          <a:blip r:embed="rId1"/>
          <a:stretch/>
        </p:blipFill>
        <p:spPr>
          <a:xfrm>
            <a:off x="3681360" y="2970360"/>
            <a:ext cx="1781280" cy="1785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8001000" cy="4572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Program Files\Microsoft Office\MEDIA\CAGCAT10\j0222015.wmf"/>
          <p:cNvPicPr/>
          <p:nvPr/>
        </p:nvPicPr>
        <p:blipFill>
          <a:blip r:embed="rId3"/>
          <a:stretch/>
        </p:blipFill>
        <p:spPr>
          <a:xfrm>
            <a:off x="5791320" y="0"/>
            <a:ext cx="1779480" cy="178740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609480" y="57913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re Money to Spend on Other  Item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6F2B-A67A-46D2-8488-CFABFCC44B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705F-0222-4204-A20C-90FA74E29B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ord a fact/idea that you remember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ss the paper to your partner who will record a fact/idea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ep recording until I call tim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367B-C086-41FA-95C2-025B4E6F53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 5 Ford Fiest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Content Placeholder 3" descr="ford fiesta.jpg"/>
          <p:cNvPicPr/>
          <p:nvPr/>
        </p:nvPicPr>
        <p:blipFill>
          <a:blip r:embed="rId1"/>
          <a:stretch/>
        </p:blipFill>
        <p:spPr>
          <a:xfrm>
            <a:off x="1523880" y="1523880"/>
            <a:ext cx="6553440" cy="4267440"/>
          </a:xfrm>
          <a:prstGeom prst="rect">
            <a:avLst/>
          </a:prstGeom>
          <a:ln w="0">
            <a:noFill/>
          </a:ln>
        </p:spPr>
      </p:pic>
      <p:sp>
        <p:nvSpPr>
          <p:cNvPr id="7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146E-3AB2-43F3-AA56-1F4C3438E4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ord a fact/idea that you remember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ss the paper to your partner who will record a fact/idea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ep recording until I call tim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9B48-C284-47FB-B0D8-A0B211E3C4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0T14:13:08Z</dcterms:created>
  <dc:creator>USER</dc:creator>
  <dc:description/>
  <dc:language>en-US</dc:language>
  <cp:lastModifiedBy>lhockenberry</cp:lastModifiedBy>
  <dcterms:modified xsi:type="dcterms:W3CDTF">2011-03-01T15:18:23Z</dcterms:modified>
  <cp:revision>14</cp:revision>
  <dc:subject/>
  <dc:title>Most Anticipated Cars of 2011:  Drive Green, Save Cash</dc:title>
</cp:coreProperties>
</file>